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0E4-2D9E-4515-8E62-9AC7F1EF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B9B-D462-4ECB-9B0A-2D2DB15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3F5-AC45-4892-AE38-20354EAF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A34-C1ED-418F-8586-84277692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B09-86AF-40AC-8D85-197BECD5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435-83A4-4147-8718-7128636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A318-626C-42E2-8D5F-B7B3337E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7A8D-09AD-4FD2-A61E-C8B547D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30E1-0B7D-45CF-A54F-0D449293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E21-7C1C-41D5-BCE0-0D1C097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5E67-E44D-420B-906A-A623F4B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2202-7BF8-40C0-B085-28E23323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8113-2778-42F8-9C90-7998209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54C2-59E9-4500-B155-2C819B9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544E-60F8-4713-B132-E08ECF9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DF99-1416-499A-B0B0-1DE1CF30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5E7-2BA9-41AA-8A06-637643D3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ED3-7A77-43D6-970E-8C16923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C84-B8F5-41DC-89E3-F5FE5C60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FFD-C3FA-4E40-A76A-21A7026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1D2-C47C-491F-A572-164968A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F9A-B619-4D17-8C00-EB7F409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B0C-3755-4218-A39D-15A7229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AD3-8493-4007-9145-7025D77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A0946-4D03-4C85-9529-3C80496A95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79BC4-BA0A-4DA9-8CA4-9D88A16A3CA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WNYRIC Standards Wireless Design Consideration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at Dziub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November 14, 2012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verview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rodu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ireless network design has many factor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NYRIC created a planning document aid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Gartner Research paper WLAN RF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upplemented by WNYRIC staff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cument inten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aide a proper wireless network design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elicit district input to design decisions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document the decisions the district chose,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provide a default in absence of district inpu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he End-User Experien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r counts and type determina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o are the wireless users? What are the uses/application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lan for 2 devices per 1 user ratio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er-User Capacity Plann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are the current and potential usag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lan for 802.11n as 802.11g is limited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Coverage Areas and Densi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How many users/devices at what locations? Diagram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lan 1 AP per classroo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Perform a post installation wireless site survey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8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News Gothic MT"/>
              </a:rPr>
              <a:t>To audit and remediate installation</a:t>
            </a: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DO NOT use mobile AP’s such as AP on a mobile cart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-User Continu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finition of Types of Cl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types of client devices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802.11b/g, 802.11a, and/or 802.11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2.4 Ghz and 5.0 Ghz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lan for iPad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eakest transmit power of most devic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grate to 5.0 Ghz 802.11n and/or 802.11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liminate 802.11b system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nimize/eliminate 802.11g systems, and 2.4 Ghz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pdate client drivers and software are regularl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&amp; Operat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te Survey and Monitoring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hat is the environmental nois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Has a spectrum analysis been done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Without a specific survey, design 1 AP per room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8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News Gothic MT"/>
              </a:rPr>
              <a:t>Optionally, use Ekahau planning tool for design</a:t>
            </a: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inking WLAN Components to Wired Infrastruc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Is there Gig wiring for proposed AP location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re there enough switched based PoE ports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Recommend dedicated 2 wiring drops to each AP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ssume the district has good power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igh availability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Is redundancy in the controller required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Continu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intenance and Repai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ame day or next business day replacement contrac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plan wireless equipment software update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vide same day replacement on controllers, none for AP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Provide licensing of software updates on all compon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etwork Manage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o will manage wireless system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rogue AP’s policy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igration Strategy for Existing Mixed Network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re there legacy access point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Replace all the existing AP’s and controlle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twork Servi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urity and Authentic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ill the client devices support WPA2-AE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9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News Gothic MT"/>
              </a:rPr>
              <a:t>Are there clients that won’t?</a:t>
            </a: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is district policy for BYOD and Guest access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WPA2-A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vanced Network Protoco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s support of VoIP wireless handsets need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ocation-Based Servic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re location-based services requir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at proximity to asset is needed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clude location services, with accuracy within 5 meter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feren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Zimmerman, T. King, M. (2009, November 11). Toolkit: Technology Section of a WLAN RFP. Gartner G00171433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ziuba, M. Holbrook, J. (2012, September 19). Discussion input from Sr. LAN/WAN meeting. Recorded at Erie 1 BOCES/WNYRIC on September 19, 2012 and October 3, 2012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21:52Z</dcterms:created>
  <dc:creator>Dziuba, Mathew</dc:creator>
  <dc:description/>
  <dc:language>en-US</dc:language>
  <cp:lastModifiedBy>Valerie Winegarden</cp:lastModifiedBy>
  <cp:lastPrinted>2012-11-13T19:40:45Z</cp:lastPrinted>
  <dcterms:modified xsi:type="dcterms:W3CDTF">2012-11-14T12:34:54Z</dcterms:modified>
  <cp:revision>6</cp:revision>
  <dc:subject/>
  <dc:title>Wireless Design Considerations For WNYRIC Standards</dc:title>
</cp:coreProperties>
</file>